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9FA7-9DC5-4929-A1CC-654BA00BA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5903-C005-46F2-9CC7-DC5BCB9E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EF68-48A9-4F9F-86B5-AA732B0B1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11C7-C1DF-4232-8A67-8789BD92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942F-3DCB-4B48-BB3B-C8AB2225E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E7F5-BAD1-405A-9C8C-8CFCBC18E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54A-311C-4B78-AC6B-A22E5FB8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653-1480-406C-B7FE-A3C95F98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C5F-F9C7-4548-BE2B-E42A9D29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CD9-BB3B-48E2-8A61-F2E399CD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9D2-4F10-4BFF-9F1E-B9102F8C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37D-4E4F-4F3C-B9E6-33B2E9E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B00-01E6-47C7-889E-6CE9B31D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34A-99BD-4844-953F-42645E51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2ED-F472-445E-802B-FD677BE1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C8C-A9E3-42F7-9272-137930A7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7EF-9765-4841-89AF-AA705A15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5D0-881D-498A-BDCC-024077E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CC22-D0ED-4AFA-B17A-F6C6DBF90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9160" y="-167760"/>
            <a:ext cx="4613400" cy="1554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C-U48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サンプ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56000" y="1371600"/>
            <a:ext cx="58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データ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マクロ機能を使用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葉電子工業製コマンド方式サーボを操作するサンプル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S485ｺﾏﾝﾄﾞ方式_RSC-U485" descr=""/>
          <p:cNvPicPr/>
          <p:nvPr/>
        </p:nvPicPr>
        <p:blipFill>
          <a:blip r:embed="rId1"/>
          <a:stretch/>
        </p:blipFill>
        <p:spPr>
          <a:xfrm>
            <a:off x="1828800" y="2187720"/>
            <a:ext cx="51055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35120" y="548640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構成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6040" y="75960"/>
            <a:ext cx="303048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通信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83808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制御用の関数です。この関数は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このファイ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実装さ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を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た通信ポート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にデータを書き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からデータを読み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Wai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定時間待ち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Se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へ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使用して開く通信ポート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ァイルに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J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記述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このファイルと同じフォルダに保管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0280" y="75960"/>
            <a:ext cx="340200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用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制御用の関数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Torq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トルク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o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を角度と時間を指定して移動さ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Compli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コンプライアンスを設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axTorqu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最大トルク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Pun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パンチ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GetDat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各関数は通信ポートを開いてから使用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サーボへの指示終了後は通信ポートを閉じ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の単位や設定範囲については各サーボの取扱説明書をご参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同じパラメータでもサーボによって単位が異なることがありますのでご注意くださ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1288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66760" y="3146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990720"/>
            <a:ext cx="7924680" cy="203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⇔RS48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変換器を接続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用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記載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電源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ボタンを押すとサーボ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と往復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動作終了後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の位置を把持し続け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6480" y="5383080"/>
            <a:ext cx="19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*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omppt.in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はメモ帳等のテキストエディタで編集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*2)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最初に「ボタンを押したときの位置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度まで移動する動作」が入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066680"/>
            <a:ext cx="6172200" cy="762120"/>
          </a:xfrm>
          <a:prstGeom prst="roundRect">
            <a:avLst>
              <a:gd name="adj" fmla="val 7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562720"/>
            <a:ext cx="7010280" cy="990360"/>
          </a:xfrm>
          <a:prstGeom prst="roundRect">
            <a:avLst>
              <a:gd name="adj" fmla="val 118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114800"/>
            <a:ext cx="7010280" cy="1371600"/>
          </a:xfrm>
          <a:prstGeom prst="roundRect">
            <a:avLst>
              <a:gd name="adj" fmla="val 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905120"/>
            <a:ext cx="7010280" cy="990360"/>
          </a:xfrm>
          <a:prstGeom prst="roundRect">
            <a:avLst>
              <a:gd name="adj" fmla="val 8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971800"/>
            <a:ext cx="7010280" cy="1066680"/>
          </a:xfrm>
          <a:prstGeom prst="roundRect">
            <a:avLst>
              <a:gd name="adj" fmla="val 9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0676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165528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令位置（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014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負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7720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温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96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09356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移動時間（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1559880" y="46623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ロー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3700800" y="4662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561320" y="50436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ージ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3700800" y="50436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520640" y="6110280"/>
            <a:ext cx="14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大トルク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84280" y="74880"/>
            <a:ext cx="4375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クロの有効化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マクロ_有効化_PowerPoint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1952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45840" y="865080"/>
            <a:ext cx="6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実行時に左図のメッセージが表示された場合は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『マクロを有効にする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）』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マクロ_セキュリティ_PowerPoint" descr=""/>
          <p:cNvPicPr/>
          <p:nvPr/>
        </p:nvPicPr>
        <p:blipFill>
          <a:blip r:embed="rId2"/>
          <a:stretch/>
        </p:blipFill>
        <p:spPr>
          <a:xfrm>
            <a:off x="152280" y="2473200"/>
            <a:ext cx="2819520" cy="1108080"/>
          </a:xfrm>
          <a:prstGeom prst="rect">
            <a:avLst/>
          </a:prstGeom>
          <a:ln w="0">
            <a:noFill/>
          </a:ln>
        </p:spPr>
      </p:pic>
      <p:pic>
        <p:nvPicPr>
          <p:cNvPr id="80" name="マクロ_セキュリティレベル変更" descr=""/>
          <p:cNvPicPr/>
          <p:nvPr/>
        </p:nvPicPr>
        <p:blipFill>
          <a:blip r:embed="rId3"/>
          <a:stretch/>
        </p:blipFill>
        <p:spPr>
          <a:xfrm>
            <a:off x="566640" y="3886200"/>
            <a:ext cx="1990800" cy="2144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2920" y="2462040"/>
            <a:ext cx="6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メッセージが表示されない場合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レベルを変更する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02200" y="205740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有効化の確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33080" y="604980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セキュリティ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6320" y="74880"/>
            <a:ext cx="5391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の参照設定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VB_ツール_参照設定_MicrosoftScriptingRuntime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76704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VB_コンパイルエラー_ユーザ定義型未定義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74132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VB_ツール_参照設定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800600" cy="15811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2760" y="167652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パイルエラ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720" y="6324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参照ライブラリ追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5120" y="87624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マクロ実行時（ボタン等の操作時）、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エラーが出ること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9760" y="3657600"/>
            <a:ext cx="281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Visual Bas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上のツールの参照設定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Scripting Runti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チェックを入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7560" y="542304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の設定はファイルごとに行う必要がある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データを作成された場合には必ず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2:16:18Z</dcterms:created>
  <dc:creator>Masayuki</dc:creator>
  <dc:description/>
  <dc:language>en-US</dc:language>
  <cp:lastModifiedBy>uemurac</cp:lastModifiedBy>
  <dcterms:modified xsi:type="dcterms:W3CDTF">2008-08-05T05:34:02Z</dcterms:modified>
  <cp:revision>230</cp:revision>
  <dc:subject/>
  <dc:title>スライド 1</dc:title>
</cp:coreProperties>
</file>