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2348-6F3D-4D85-8FB9-314D8AB5B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60DA-1B5F-4D6D-AE94-43025499A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B762-A2EE-4A2E-8770-23BD2E177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5BEB-A809-41C0-838C-712C10B19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4A10-325E-44C4-81E7-730BAC9D7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40B9-0E04-4608-99F6-55353F10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DE3-7F33-4EBB-8555-29291BC3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650-67E0-4462-A27B-708A1F43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585-B994-40E0-987D-982F9B82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95B-263D-4A82-AB12-2BDC6C1D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72D-9A9C-4640-BEE1-E3E19AD4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770-78D3-44DB-B0E1-DDC47B25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C7C-2903-42EA-9E2D-9FE07B82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0C3-BE86-4913-AC38-7EDE078B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166-2C59-4303-854D-A64179D5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A30-0728-439A-9EC5-39DCE10B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2E5-A1A5-4B65-923E-55426770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F4C-8E7B-4625-A14B-4C69875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87AF-D281-43D2-A3E4-C1A4E364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79160" y="-167760"/>
            <a:ext cx="4613400" cy="1554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C-U48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サンプ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icrosoft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56000" y="1371600"/>
            <a:ext cx="58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データ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マクロ機能を使用し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双葉電子工業製コマンド方式サーボを操作するサンプル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S485ｺﾏﾝﾄﾞ方式_RSC-U485" descr=""/>
          <p:cNvPicPr/>
          <p:nvPr/>
        </p:nvPicPr>
        <p:blipFill>
          <a:blip r:embed="rId1"/>
          <a:stretch/>
        </p:blipFill>
        <p:spPr>
          <a:xfrm>
            <a:off x="1828800" y="2187720"/>
            <a:ext cx="51055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35120" y="5486400"/>
            <a:ext cx="19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構成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6040" y="75960"/>
            <a:ext cx="303048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通信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838080"/>
            <a:ext cx="82296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制御用の関数です。この関数は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このファイ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実装さ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を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いた通信ポートを閉じ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にデータを書き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からデータを読み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Wai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定時間待ち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Se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へデータを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使用して開く通信ポートは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ァイルに記述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-JI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記述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このファイルと同じフォルダに保管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0280" y="75960"/>
            <a:ext cx="340200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用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制御用の関数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Torqu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トルク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o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を角度と時間を指定して移動さ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Compli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コンプライアンスを設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axTorqu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最大トルク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Pun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パンチ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GetDat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各関数は通信ポートを開いてから使用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サーボへの指示終了後は通信ポートを閉じ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パラメータの単位や設定範囲については各サーボの取扱説明書をご参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同じパラメータでもサーボによって単位が異なることがありますのでご注意くださ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1288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66760" y="314640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990720"/>
            <a:ext cx="7924680" cy="203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⇔RS48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変換器を接続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用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記載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電源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ボタンを押すとサーボ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と往復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動作終了後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の位置を把持し続け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6480" y="5383080"/>
            <a:ext cx="19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*1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omppt.in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はメモ帳等のテキストエディタで編集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*2)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最初に「ボタンを押したときの位置から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度まで移動する動作」が入り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066680"/>
            <a:ext cx="6172200" cy="762120"/>
          </a:xfrm>
          <a:prstGeom prst="roundRect">
            <a:avLst>
              <a:gd name="adj" fmla="val 7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562720"/>
            <a:ext cx="7010280" cy="990360"/>
          </a:xfrm>
          <a:prstGeom prst="roundRect">
            <a:avLst>
              <a:gd name="adj" fmla="val 118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114800"/>
            <a:ext cx="7010280" cy="1371600"/>
          </a:xfrm>
          <a:prstGeom prst="roundRect">
            <a:avLst>
              <a:gd name="adj" fmla="val 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905120"/>
            <a:ext cx="7010280" cy="990360"/>
          </a:xfrm>
          <a:prstGeom prst="roundRect">
            <a:avLst>
              <a:gd name="adj" fmla="val 8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971800"/>
            <a:ext cx="7010280" cy="1066680"/>
          </a:xfrm>
          <a:prstGeom prst="roundRect">
            <a:avLst>
              <a:gd name="adj" fmla="val 9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0676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165528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令位置（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014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負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97720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温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5296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位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09356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移動時間（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"/>
          <p:cNvSpPr/>
          <p:nvPr/>
        </p:nvSpPr>
        <p:spPr>
          <a:xfrm>
            <a:off x="1559880" y="46623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ロー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3700800" y="4662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1561320" y="50436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ージ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"/>
          <p:cNvSpPr/>
          <p:nvPr/>
        </p:nvSpPr>
        <p:spPr>
          <a:xfrm>
            <a:off x="3700800" y="50436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1520640" y="6110280"/>
            <a:ext cx="14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大トルク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84280" y="74880"/>
            <a:ext cx="43754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クロの有効化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マクロ_有効化_PowerPoint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819520" cy="131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45840" y="865080"/>
            <a:ext cx="6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ァイル実行時に左図のメッセージが表示された場合は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『マクロを有効にする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）』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マクロ_セキュリティ_PowerPoint" descr=""/>
          <p:cNvPicPr/>
          <p:nvPr/>
        </p:nvPicPr>
        <p:blipFill>
          <a:blip r:embed="rId2"/>
          <a:stretch/>
        </p:blipFill>
        <p:spPr>
          <a:xfrm>
            <a:off x="152280" y="2473200"/>
            <a:ext cx="2819520" cy="1108080"/>
          </a:xfrm>
          <a:prstGeom prst="rect">
            <a:avLst/>
          </a:prstGeom>
          <a:ln w="0">
            <a:noFill/>
          </a:ln>
        </p:spPr>
      </p:pic>
      <p:pic>
        <p:nvPicPr>
          <p:cNvPr id="80" name="マクロ_セキュリティレベル変更" descr=""/>
          <p:cNvPicPr/>
          <p:nvPr/>
        </p:nvPicPr>
        <p:blipFill>
          <a:blip r:embed="rId3"/>
          <a:stretch/>
        </p:blipFill>
        <p:spPr>
          <a:xfrm>
            <a:off x="566640" y="3886200"/>
            <a:ext cx="1990800" cy="2144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12920" y="2462040"/>
            <a:ext cx="6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メッセージが表示されない場合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レベルを変更する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02200" y="205740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有効化の確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33080" y="6049800"/>
            <a:ext cx="22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セキュリティ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6320" y="74880"/>
            <a:ext cx="539136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イブラリの参照設定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VB_ツール_参照設定_MicrosoftScriptingRuntime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767040" cy="2600280"/>
          </a:xfrm>
          <a:prstGeom prst="rect">
            <a:avLst/>
          </a:prstGeom>
          <a:ln w="0">
            <a:noFill/>
          </a:ln>
        </p:spPr>
      </p:pic>
      <p:pic>
        <p:nvPicPr>
          <p:cNvPr id="87" name="VB_コンパイルエラー_ユーザ定義型未定義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741320" cy="852480"/>
          </a:xfrm>
          <a:prstGeom prst="rect">
            <a:avLst/>
          </a:prstGeom>
          <a:ln w="0">
            <a:noFill/>
          </a:ln>
        </p:spPr>
      </p:pic>
      <p:pic>
        <p:nvPicPr>
          <p:cNvPr id="88" name="VB_ツール_参照設定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800600" cy="15811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2760" y="167652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ンパイルエラ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429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720" y="632448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参照ライブラリ追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5120" y="876240"/>
            <a:ext cx="58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マクロ実行時（ボタン等の操作時）、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エラーが出ること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9760" y="3657600"/>
            <a:ext cx="281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Visual Bas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上のツールの参照設定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Scripting Runti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チェックを入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7560" y="5423040"/>
            <a:ext cx="274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の設定はファイルごとに行う必要があるの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規データを作成された場合には必ず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2:16:18Z</dcterms:created>
  <dc:creator>Masayuki</dc:creator>
  <dc:description/>
  <dc:language>en-US</dc:language>
  <cp:lastModifiedBy>uemurac</cp:lastModifiedBy>
  <dcterms:modified xsi:type="dcterms:W3CDTF">2008-08-05T05:34:02Z</dcterms:modified>
  <cp:revision>230</cp:revision>
  <dc:subject/>
  <dc:title>スライド 1</dc:title>
</cp:coreProperties>
</file>