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9778-6A85-4971-AB5E-F04FF35B0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F657-3EAB-446E-B398-E98BD5999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8AE7-E312-46F9-926D-96103F19B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52B2-E340-4D3D-A0A5-3B2068E7A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AE834-4400-48A1-8853-DC1176D7E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2DF5-0613-4DF1-92E2-A305559E1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77CB-3EEE-48CC-A6C0-A73E9D0D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F1FA-5351-4BB1-8818-F7913E52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AF42-6885-4D20-8089-E6C91F59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51AB-7AFC-49F6-9F18-729292F9F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B13-0F22-4D51-93C5-551AD80C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8A82-A2C2-4D15-804E-9F777C906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4761-1748-43E7-BED0-422D2D7EE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9CB7-2AE7-4D04-9399-845C2DAD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D1D1-D006-47FB-BA24-33763C6B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7673-AFC3-44E4-97F8-D9C34CFA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695A-586D-466A-AC89-58DBC0434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FFD0-A1D0-4D1C-ADFE-F8E7BBCC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F0E34-D852-4781-B0FA-FA5FB2946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79160" y="-167760"/>
            <a:ext cx="4613400" cy="15541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SC-U485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用サンプル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 Microsoft Power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656000" y="1371600"/>
            <a:ext cx="5832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本データ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rosoft Power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マクロ機能を使用し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双葉電子工業製コマンド方式サーボを操作するサンプルです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S485ｺﾏﾝﾄﾞ方式_RSC-U485" descr=""/>
          <p:cNvPicPr/>
          <p:nvPr/>
        </p:nvPicPr>
        <p:blipFill>
          <a:blip r:embed="rId1"/>
          <a:stretch/>
        </p:blipFill>
        <p:spPr>
          <a:xfrm>
            <a:off x="1828800" y="2187720"/>
            <a:ext cx="5105520" cy="331452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435120" y="5486400"/>
            <a:ext cx="195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システム構成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6040" y="75960"/>
            <a:ext cx="303048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B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用通信関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609480" y="838080"/>
            <a:ext cx="8229600" cy="45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制御用の関数です。この関数は</a:t>
            </a:r>
            <a:r>
              <a:rPr b="1" lang="ja-JP" sz="1800" spc="-1" strike="noStrike" u="sng">
                <a:solidFill>
                  <a:srgbClr val="000000"/>
                </a:solidFill>
                <a:uFillTx/>
                <a:latin typeface="Arial"/>
              </a:rPr>
              <a:t>このファイル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内に実装されてい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Co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ポートを開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Co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開いた通信ポートを閉じ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Com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ポートにデータを書き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Comm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通信ポートからデータを読み込み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vWait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指定時間待ち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vSend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へデータを送信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注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Com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を使用して開く通信ポートは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”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ファイルに記述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ift-JI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で記述する必要が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はこのファイルと同じフォルダに保管し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870280" y="75960"/>
            <a:ext cx="340200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BA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ボ用関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57200" y="8380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制御用の関数で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Torqu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トルク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Mov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を角度と時間を指定して移動させ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Complianc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コンプライアンスを設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MaxTorqu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最大トルクを指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Punch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パンチを指定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oGetData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データを取得し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注意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各関数は通信ポートを開いてから使用する必要があり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サーボへの指示終了後は通信ポートを閉じて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・パラメータの単位や設定範囲については各サーボの取扱説明書をご参照くださ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（同じパラメータでもサーボによって単位が異なることがありますのでご注意ください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12880" y="75960"/>
            <a:ext cx="392904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ボ操作サンプ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166760" y="3146400"/>
            <a:ext cx="7005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533520" y="990720"/>
            <a:ext cx="7924680" cy="2037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ポート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B⇔RS48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変換器を接続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使用す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ポート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pt.ini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記載す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*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サーボの電源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に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下のボタンを押すとサーボ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→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と往復する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*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動作終了後は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度の位置を把持し続け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66480" y="5383080"/>
            <a:ext cx="193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*1)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comppt.ini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はメモ帳等のテキストエディタで編集し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*2)</a:t>
            </a:r>
            <a:r>
              <a:rPr b="0" lang="en-US" sz="1600" spc="-1" strike="noStrike">
                <a:solidFill>
                  <a:srgbClr val="000000"/>
                </a:solidFill>
                <a:latin typeface="ＭＳ Ｐゴシック"/>
              </a:rPr>
              <a:t>　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最初に「ボタンを押したときの位置から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0</a:t>
            </a:r>
            <a:r>
              <a:rPr b="0" lang="ja-JP" sz="1600" spc="-1" strike="noStrike">
                <a:solidFill>
                  <a:srgbClr val="000000"/>
                </a:solidFill>
                <a:latin typeface="ＭＳ Ｐゴシック"/>
              </a:rPr>
              <a:t>度まで移動する動作」が入りま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371600" y="1066680"/>
            <a:ext cx="6172200" cy="762120"/>
          </a:xfrm>
          <a:prstGeom prst="roundRect">
            <a:avLst>
              <a:gd name="adj" fmla="val 729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5562720"/>
            <a:ext cx="7010280" cy="990360"/>
          </a:xfrm>
          <a:prstGeom prst="roundRect">
            <a:avLst>
              <a:gd name="adj" fmla="val 1180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4114800"/>
            <a:ext cx="7010280" cy="1371600"/>
          </a:xfrm>
          <a:prstGeom prst="roundRect">
            <a:avLst>
              <a:gd name="adj" fmla="val 68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71600" y="1905120"/>
            <a:ext cx="7010280" cy="990360"/>
          </a:xfrm>
          <a:prstGeom prst="roundRect">
            <a:avLst>
              <a:gd name="adj" fmla="val 849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2971800"/>
            <a:ext cx="7010280" cy="1066680"/>
          </a:xfrm>
          <a:prstGeom prst="roundRect">
            <a:avLst>
              <a:gd name="adj" fmla="val 90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606760" y="75960"/>
            <a:ext cx="3929040" cy="5792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サーボ操作サンプル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テキスト ボックス 4"/>
          <p:cNvSpPr/>
          <p:nvPr/>
        </p:nvSpPr>
        <p:spPr>
          <a:xfrm>
            <a:off x="1655280" y="2438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指令位置（度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4501440" y="3581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負荷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2977200" y="3581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温度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2"/>
          <p:cNvSpPr/>
          <p:nvPr/>
        </p:nvSpPr>
        <p:spPr>
          <a:xfrm>
            <a:off x="1529640" y="3581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位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テキスト ボックス 4"/>
          <p:cNvSpPr/>
          <p:nvPr/>
        </p:nvSpPr>
        <p:spPr>
          <a:xfrm>
            <a:off x="4093560" y="243828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移動時間（秒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4"/>
          <p:cNvSpPr/>
          <p:nvPr/>
        </p:nvSpPr>
        <p:spPr>
          <a:xfrm>
            <a:off x="1559880" y="466236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スロープ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4"/>
          <p:cNvSpPr/>
          <p:nvPr/>
        </p:nvSpPr>
        <p:spPr>
          <a:xfrm>
            <a:off x="3700800" y="4662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テキスト ボックス 4"/>
          <p:cNvSpPr/>
          <p:nvPr/>
        </p:nvSpPr>
        <p:spPr>
          <a:xfrm>
            <a:off x="1561320" y="5043600"/>
            <a:ext cx="13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マージン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テキスト ボックス 4"/>
          <p:cNvSpPr/>
          <p:nvPr/>
        </p:nvSpPr>
        <p:spPr>
          <a:xfrm>
            <a:off x="3700800" y="504360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C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テキスト ボックス 4"/>
          <p:cNvSpPr/>
          <p:nvPr/>
        </p:nvSpPr>
        <p:spPr>
          <a:xfrm>
            <a:off x="1520640" y="6110280"/>
            <a:ext cx="145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最大トルク（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384280" y="74880"/>
            <a:ext cx="437544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マクロの有効化につい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マクロ_有効化_PowerPoint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2819520" cy="1314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145840" y="865080"/>
            <a:ext cx="69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ファイル実行時に左図のメッセージが表示された場合は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『マクロを有効にする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）』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を選択してくださ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マクロ_セキュリティ_PowerPoint" descr=""/>
          <p:cNvPicPr/>
          <p:nvPr/>
        </p:nvPicPr>
        <p:blipFill>
          <a:blip r:embed="rId2"/>
          <a:stretch/>
        </p:blipFill>
        <p:spPr>
          <a:xfrm>
            <a:off x="152280" y="2473200"/>
            <a:ext cx="2819520" cy="1108080"/>
          </a:xfrm>
          <a:prstGeom prst="rect">
            <a:avLst/>
          </a:prstGeom>
          <a:ln w="0">
            <a:noFill/>
          </a:ln>
        </p:spPr>
      </p:pic>
      <p:pic>
        <p:nvPicPr>
          <p:cNvPr id="80" name="マクロ_セキュリティレベル変更" descr=""/>
          <p:cNvPicPr/>
          <p:nvPr/>
        </p:nvPicPr>
        <p:blipFill>
          <a:blip r:embed="rId3"/>
          <a:stretch/>
        </p:blipFill>
        <p:spPr>
          <a:xfrm>
            <a:off x="566640" y="3886200"/>
            <a:ext cx="1990800" cy="2144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12920" y="2462040"/>
            <a:ext cx="60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メッセージが表示されない場合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セキュリティレベルを変更する必要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502200" y="2057400"/>
            <a:ext cx="207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クロの有効化の確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350532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33080" y="6049800"/>
            <a:ext cx="225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クロのセキュリティ設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76320" y="74880"/>
            <a:ext cx="5391360" cy="58140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ライブラリの参照設定につい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VB_ツール_参照設定_MicrosoftScriptingRuntime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3767040" cy="2600280"/>
          </a:xfrm>
          <a:prstGeom prst="rect">
            <a:avLst/>
          </a:prstGeom>
          <a:ln w="0">
            <a:noFill/>
          </a:ln>
        </p:spPr>
      </p:pic>
      <p:pic>
        <p:nvPicPr>
          <p:cNvPr id="87" name="VB_コンパイルエラー_ユーザ定義型未定義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1741320" cy="852480"/>
          </a:xfrm>
          <a:prstGeom prst="rect">
            <a:avLst/>
          </a:prstGeom>
          <a:ln w="0">
            <a:noFill/>
          </a:ln>
        </p:spPr>
      </p:pic>
      <p:pic>
        <p:nvPicPr>
          <p:cNvPr id="88" name="VB_ツール_参照設定" descr=""/>
          <p:cNvPicPr/>
          <p:nvPr/>
        </p:nvPicPr>
        <p:blipFill>
          <a:blip r:embed="rId3"/>
          <a:stretch/>
        </p:blipFill>
        <p:spPr>
          <a:xfrm>
            <a:off x="228600" y="1981080"/>
            <a:ext cx="4800600" cy="15811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3"/>
          <p:cNvSpPr/>
          <p:nvPr/>
        </p:nvSpPr>
        <p:spPr>
          <a:xfrm>
            <a:off x="212760" y="1676520"/>
            <a:ext cx="18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コンパイルエラ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81080" y="3429000"/>
            <a:ext cx="228600" cy="38088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8720" y="6324480"/>
            <a:ext cx="198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図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参照ライブラリ追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75120" y="876240"/>
            <a:ext cx="58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マクロ実行時（ボタン等の操作時）、図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のエラーが出ること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09760" y="3657600"/>
            <a:ext cx="281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Visual Basic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上のツールの参照設定で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crosoft Scripting Runtim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にチェックを入れ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67560" y="5423040"/>
            <a:ext cx="274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この設定はファイルごとに行う必要があるので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新規データを作成された場合には必ず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必要があり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3T12:16:18Z</dcterms:created>
  <dc:creator>Masayuki</dc:creator>
  <dc:description/>
  <dc:language>en-US</dc:language>
  <cp:lastModifiedBy>uemurac</cp:lastModifiedBy>
  <dcterms:modified xsi:type="dcterms:W3CDTF">2008-08-05T05:34:02Z</dcterms:modified>
  <cp:revision>230</cp:revision>
  <dc:subject/>
  <dc:title>スライド 1</dc:title>
</cp:coreProperties>
</file>