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2874B-64A5-49F0-A848-A6DA14843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BDE5C-504C-4272-B724-72B75496E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59280-9109-4FE0-B20A-D5E299B95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2C4F3-5561-42EF-8DE9-2A863568A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F5AEF-E70E-44B6-923B-39AB419522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6D2D4-2264-4D89-98F3-C0CAD35C9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423B-0CEE-434E-84B6-5ABDFA851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9241-9C7F-4D8D-9AD3-DAA92DEF5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08CB-A3FF-4E9A-9CDC-9EE9A017D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01BA-F62F-4BB3-AAC9-A7E8D088B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18BF-3DB3-4EA7-8423-EAFC8F537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1ACD-DE07-40E8-9D91-9204B9306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47A9-35F5-40B2-AB0D-69D18BFF2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CF5B-E953-4680-9D98-31BE8BB85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2FDE-66CB-4334-8EFE-F29CCBD63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0CE5-7880-4F72-851F-BB7626EF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421C-FA2B-4AA4-8BA5-FE7D19BB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3BDC-E4A2-492A-A698-F8686F3DA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0ECF0-5ADF-48CF-A7DE-833DE3003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79160" y="-167760"/>
            <a:ext cx="4613400" cy="155412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SC-U485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用サンプル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Microsoft Power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656000" y="1371600"/>
            <a:ext cx="583200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本データ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soft PowerPoin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マクロ機能を使用し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双葉電子工業製コマンド方式サーボを操作するサンプルで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RS485ｺﾏﾝﾄﾞ方式_RSC-U485" descr=""/>
          <p:cNvPicPr/>
          <p:nvPr/>
        </p:nvPicPr>
        <p:blipFill>
          <a:blip r:embed="rId1"/>
          <a:stretch/>
        </p:blipFill>
        <p:spPr>
          <a:xfrm>
            <a:off x="1828800" y="2187720"/>
            <a:ext cx="5105520" cy="33145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3435120" y="5486400"/>
            <a:ext cx="195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システム構成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6040" y="75960"/>
            <a:ext cx="3030480" cy="57924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B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用通信関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609480" y="838080"/>
            <a:ext cx="8229600" cy="45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制御用の関数です。この関数は</a:t>
            </a:r>
            <a:r>
              <a:rPr b="1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このファイル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に実装されてい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Comm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ポートを開き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Comm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開いた通信ポートを閉じ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Comm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ポートにデータを書き込み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Comm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ポートからデータを読み込み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vWait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指定時間待ち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vSend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サーボへデータを送信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注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Comm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を使用して開く通信ポートは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pt.ini”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ファイルに記述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pt.ini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ft-JI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記述する必要があり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pt.ini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はこのファイルと同じフォルダに保管してくださ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70280" y="75960"/>
            <a:ext cx="3402000" cy="57924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B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サーボ用関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サーボ制御用の関数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oTorqu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サーボのトルク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/OFF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oMov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サーボを角度と時間を指定して移動させ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oComplianc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サーボのコンプライアンスを設定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oMaxTorque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サーボの最大トルクを指定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oPunch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サーボのパンチを指定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oGetDat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サーボのデータを取得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注意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各関数は通信ポートを開いてから使用する必要があり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サーボへの指示終了後は通信ポートを閉じてくださ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パラメータの単位や設定範囲については各サーボの取扱説明書をご参照くださ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同じパラメータでもサーボによって単位が異なることがありますのでご注意ください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612880" y="75960"/>
            <a:ext cx="3929040" cy="57924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サーボ操作サンプル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1166760" y="3146400"/>
            <a:ext cx="700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533520" y="990720"/>
            <a:ext cx="7924680" cy="203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B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ポートに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B⇔RS485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変換器を接続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使用す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ポート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pt.ini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に記載する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*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サーボの電源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に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下のボタンを押すとサーボ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度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度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度と往復する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*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動作終了後は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度の位置を把持し続け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66480" y="5383080"/>
            <a:ext cx="193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*1)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comppt.ini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はメモ帳等のテキストエディタで編集してくださ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*2)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最初に「ボタンを押したときの位置から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0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度まで移動する動作」が入りま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371600" y="1066680"/>
            <a:ext cx="6172200" cy="762120"/>
          </a:xfrm>
          <a:prstGeom prst="roundRect">
            <a:avLst>
              <a:gd name="adj" fmla="val 729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371600" y="5562720"/>
            <a:ext cx="7010280" cy="990360"/>
          </a:xfrm>
          <a:prstGeom prst="roundRect">
            <a:avLst>
              <a:gd name="adj" fmla="val 1180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371600" y="4114800"/>
            <a:ext cx="7010280" cy="1371600"/>
          </a:xfrm>
          <a:prstGeom prst="roundRect">
            <a:avLst>
              <a:gd name="adj" fmla="val 68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371600" y="1905120"/>
            <a:ext cx="7010280" cy="990360"/>
          </a:xfrm>
          <a:prstGeom prst="roundRect">
            <a:avLst>
              <a:gd name="adj" fmla="val 849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71600" y="2971800"/>
            <a:ext cx="7010280" cy="1066680"/>
          </a:xfrm>
          <a:prstGeom prst="roundRect">
            <a:avLst>
              <a:gd name="adj" fmla="val 9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606760" y="75960"/>
            <a:ext cx="3929040" cy="57924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サーボ操作サンプル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テキスト ボックス 4"/>
          <p:cNvSpPr/>
          <p:nvPr/>
        </p:nvSpPr>
        <p:spPr>
          <a:xfrm>
            <a:off x="1655280" y="243828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指令位置（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4501440" y="3581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負荷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2"/>
          <p:cNvSpPr/>
          <p:nvPr/>
        </p:nvSpPr>
        <p:spPr>
          <a:xfrm>
            <a:off x="2977200" y="3581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温度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2"/>
          <p:cNvSpPr/>
          <p:nvPr/>
        </p:nvSpPr>
        <p:spPr>
          <a:xfrm>
            <a:off x="1529640" y="3581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位置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テキスト ボックス 4"/>
          <p:cNvSpPr/>
          <p:nvPr/>
        </p:nvSpPr>
        <p:spPr>
          <a:xfrm>
            <a:off x="4093560" y="243828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移動時間（秒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テキスト ボックス 4"/>
          <p:cNvSpPr/>
          <p:nvPr/>
        </p:nvSpPr>
        <p:spPr>
          <a:xfrm>
            <a:off x="1559880" y="4662360"/>
            <a:ext cx="13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スロープ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4"/>
          <p:cNvSpPr/>
          <p:nvPr/>
        </p:nvSpPr>
        <p:spPr>
          <a:xfrm>
            <a:off x="3700800" y="4662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C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テキスト ボックス 4"/>
          <p:cNvSpPr/>
          <p:nvPr/>
        </p:nvSpPr>
        <p:spPr>
          <a:xfrm>
            <a:off x="1561320" y="5043600"/>
            <a:ext cx="13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マージン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テキスト ボックス 4"/>
          <p:cNvSpPr/>
          <p:nvPr/>
        </p:nvSpPr>
        <p:spPr>
          <a:xfrm>
            <a:off x="3700800" y="504360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C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テキスト ボックス 4"/>
          <p:cNvSpPr/>
          <p:nvPr/>
        </p:nvSpPr>
        <p:spPr>
          <a:xfrm>
            <a:off x="1520640" y="6110280"/>
            <a:ext cx="145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最大トルク（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384280" y="74880"/>
            <a:ext cx="4375440" cy="58140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マクロの有効化につい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マクロ_有効化_PowerPoint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2819520" cy="13143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5145840" y="865080"/>
            <a:ext cx="695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ファイル実行時に左図のメッセージが表示された場合は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『マクロを有効にする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）』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を選択してくださ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マクロ_セキュリティ_PowerPoint" descr=""/>
          <p:cNvPicPr/>
          <p:nvPr/>
        </p:nvPicPr>
        <p:blipFill>
          <a:blip r:embed="rId2"/>
          <a:stretch/>
        </p:blipFill>
        <p:spPr>
          <a:xfrm>
            <a:off x="152280" y="2473200"/>
            <a:ext cx="2819520" cy="1108080"/>
          </a:xfrm>
          <a:prstGeom prst="rect">
            <a:avLst/>
          </a:prstGeom>
          <a:ln w="0">
            <a:noFill/>
          </a:ln>
        </p:spPr>
      </p:pic>
      <p:pic>
        <p:nvPicPr>
          <p:cNvPr id="80" name="マクロ_セキュリティレベル変更" descr=""/>
          <p:cNvPicPr/>
          <p:nvPr/>
        </p:nvPicPr>
        <p:blipFill>
          <a:blip r:embed="rId3"/>
          <a:stretch/>
        </p:blipFill>
        <p:spPr>
          <a:xfrm>
            <a:off x="566640" y="3886200"/>
            <a:ext cx="1990800" cy="2144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912920" y="2462040"/>
            <a:ext cx="605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のメッセージが表示されない場合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セキュリティレベルを変更する必要があり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502200" y="2057400"/>
            <a:ext cx="207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クロの有効化の確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447920" y="3505320"/>
            <a:ext cx="228600" cy="38088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33080" y="6049800"/>
            <a:ext cx="225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クロのセキュリティ設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876320" y="74880"/>
            <a:ext cx="5391360" cy="58140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ライブラリの参照設定につい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VB_ツール_参照設定_MicrosoftScriptingRuntime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3767040" cy="2600280"/>
          </a:xfrm>
          <a:prstGeom prst="rect">
            <a:avLst/>
          </a:prstGeom>
          <a:ln w="0">
            <a:noFill/>
          </a:ln>
        </p:spPr>
      </p:pic>
      <p:pic>
        <p:nvPicPr>
          <p:cNvPr id="87" name="VB_コンパイルエラー_ユーザ定義型未定義" descr=""/>
          <p:cNvPicPr/>
          <p:nvPr/>
        </p:nvPicPr>
        <p:blipFill>
          <a:blip r:embed="rId2"/>
          <a:stretch/>
        </p:blipFill>
        <p:spPr>
          <a:xfrm>
            <a:off x="228600" y="838080"/>
            <a:ext cx="1741320" cy="852480"/>
          </a:xfrm>
          <a:prstGeom prst="rect">
            <a:avLst/>
          </a:prstGeom>
          <a:ln w="0">
            <a:noFill/>
          </a:ln>
        </p:spPr>
      </p:pic>
      <p:pic>
        <p:nvPicPr>
          <p:cNvPr id="88" name="VB_ツール_参照設定" descr=""/>
          <p:cNvPicPr/>
          <p:nvPr/>
        </p:nvPicPr>
        <p:blipFill>
          <a:blip r:embed="rId3"/>
          <a:stretch/>
        </p:blipFill>
        <p:spPr>
          <a:xfrm>
            <a:off x="228600" y="1981080"/>
            <a:ext cx="4800600" cy="158112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"/>
          <p:cNvSpPr/>
          <p:nvPr/>
        </p:nvSpPr>
        <p:spPr>
          <a:xfrm>
            <a:off x="212760" y="1676520"/>
            <a:ext cx="18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コンパイルエラ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81080" y="3429000"/>
            <a:ext cx="228600" cy="38088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18720" y="6324480"/>
            <a:ext cx="198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参照ライブラリ追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875120" y="876240"/>
            <a:ext cx="58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マクロ実行時（ボタン等の操作時）、図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のエラーが出ることがあり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009760" y="3657600"/>
            <a:ext cx="2812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crosoft Visual Basic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上のツールの参照設定で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crosoft Scripting Runtime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にチェックを入れ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867560" y="5423040"/>
            <a:ext cx="2741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この設定はファイルごとに行う必要があるので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新規データを作成された場合には必ず実行す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必要があり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3T12:16:18Z</dcterms:created>
  <dc:creator>Masayuki</dc:creator>
  <dc:description/>
  <dc:language>en-US</dc:language>
  <cp:lastModifiedBy>uemurac</cp:lastModifiedBy>
  <dcterms:modified xsi:type="dcterms:W3CDTF">2008-08-05T05:34:02Z</dcterms:modified>
  <cp:revision>230</cp:revision>
  <dc:subject/>
  <dc:title>スライド 1</dc:title>
</cp:coreProperties>
</file>