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0B97-D735-41A4-85B5-FCA82664D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833D-8005-47E2-A089-9201B0457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CE2B-643D-4A3C-9D23-A1834C4A2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5D22-CA3E-49E6-ACD5-376944D8D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6A64-06FB-4075-B367-280B86F3D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7659-4F11-4A6D-9626-37DD52959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219-0D07-4868-A69A-B16FAE28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3412-E561-4C5B-B455-DF2A8505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7D7-41FB-4FB4-ABB0-17C72235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7739-16E2-4C83-8217-026CE7F8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C64-9BF5-4F86-A06D-12E087CE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B6F-62DC-4A4B-A73B-3CAD113B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AD9-C6C4-4B26-87E0-48A7783D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2CE-FB9F-434C-9CC0-D204B2FE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2BD-B098-4488-9FBC-95D08827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631-3FB2-446C-A48A-D6EF4B9E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EF73-CBA7-48DA-8222-645C3440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903-EDE6-48A3-ADF9-9143E901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6428-087D-4B53-B139-484BB8713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79160" y="-167760"/>
            <a:ext cx="4613400" cy="15541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SC-U48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用サンプル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Microsoft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656000" y="1371600"/>
            <a:ext cx="5832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データ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マクロ機能を使用し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双葉電子工業製コマンド方式サーボを操作するサンプル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S485ｺﾏﾝﾄﾞ方式_RSC-U485" descr=""/>
          <p:cNvPicPr/>
          <p:nvPr/>
        </p:nvPicPr>
        <p:blipFill>
          <a:blip r:embed="rId1"/>
          <a:stretch/>
        </p:blipFill>
        <p:spPr>
          <a:xfrm>
            <a:off x="1828800" y="2187720"/>
            <a:ext cx="5105520" cy="3314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435120" y="5486400"/>
            <a:ext cx="195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構成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6040" y="75960"/>
            <a:ext cx="303048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B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用通信関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09480" y="838080"/>
            <a:ext cx="822960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制御用の関数です。この関数は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このファイ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に実装され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を開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開いた通信ポートを閉じ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Com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にデータを書き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Com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からデータを読み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vWai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指定時間待ち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vSen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へデータを送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使用して開く通信ポートは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”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ファイルに記述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-JI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記述する必要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このファイルと同じフォルダに保管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70280" y="75960"/>
            <a:ext cx="340200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B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用関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制御用の関数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Torqu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トルク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Mo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を角度と時間を指定して移動さ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Complian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コンプライアンスを設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MaxTorqu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最大トルクを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Punc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パンチを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GetDat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データを取得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各関数は通信ポートを開いてから使用する必要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サーボへの指示終了後は通信ポートを閉じ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パラメータの単位や設定範囲については各サーボの取扱説明書をご参照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同じパラメータでもサーボによって単位が異なることがありますのでご注意くださ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12880" y="75960"/>
            <a:ext cx="392904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操作サンプ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166760" y="3146400"/>
            <a:ext cx="700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990720"/>
            <a:ext cx="7924680" cy="203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ト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⇔RS48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変換器を接続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用す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ト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記載す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電源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下のボタンを押すとサーボ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と往復す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*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動作終了後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の位置を把持し続け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66480" y="5383080"/>
            <a:ext cx="193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*1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comppt.ini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はメモ帳等のテキストエディタで編集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*2)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最初に「ボタンを押したときの位置から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度まで移動する動作」が入り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1600" y="1066680"/>
            <a:ext cx="6172200" cy="762120"/>
          </a:xfrm>
          <a:prstGeom prst="roundRect">
            <a:avLst>
              <a:gd name="adj" fmla="val 7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562720"/>
            <a:ext cx="7010280" cy="990360"/>
          </a:xfrm>
          <a:prstGeom prst="roundRect">
            <a:avLst>
              <a:gd name="adj" fmla="val 118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4114800"/>
            <a:ext cx="7010280" cy="1371600"/>
          </a:xfrm>
          <a:prstGeom prst="roundRect">
            <a:avLst>
              <a:gd name="adj" fmla="val 68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1905120"/>
            <a:ext cx="7010280" cy="990360"/>
          </a:xfrm>
          <a:prstGeom prst="roundRect">
            <a:avLst>
              <a:gd name="adj" fmla="val 84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971800"/>
            <a:ext cx="7010280" cy="1066680"/>
          </a:xfrm>
          <a:prstGeom prst="roundRect">
            <a:avLst>
              <a:gd name="adj" fmla="val 9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06760" y="75960"/>
            <a:ext cx="392904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操作サンプ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4"/>
          <p:cNvSpPr/>
          <p:nvPr/>
        </p:nvSpPr>
        <p:spPr>
          <a:xfrm>
            <a:off x="1655280" y="243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指令位置（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0144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負荷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97720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温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152964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位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"/>
          <p:cNvSpPr/>
          <p:nvPr/>
        </p:nvSpPr>
        <p:spPr>
          <a:xfrm>
            <a:off x="4093560" y="243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移動時間（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4"/>
          <p:cNvSpPr/>
          <p:nvPr/>
        </p:nvSpPr>
        <p:spPr>
          <a:xfrm>
            <a:off x="1559880" y="46623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スロー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4"/>
          <p:cNvSpPr/>
          <p:nvPr/>
        </p:nvSpPr>
        <p:spPr>
          <a:xfrm>
            <a:off x="3700800" y="4662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4"/>
          <p:cNvSpPr/>
          <p:nvPr/>
        </p:nvSpPr>
        <p:spPr>
          <a:xfrm>
            <a:off x="1561320" y="50436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マージ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4"/>
          <p:cNvSpPr/>
          <p:nvPr/>
        </p:nvSpPr>
        <p:spPr>
          <a:xfrm>
            <a:off x="3700800" y="50436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4"/>
          <p:cNvSpPr/>
          <p:nvPr/>
        </p:nvSpPr>
        <p:spPr>
          <a:xfrm>
            <a:off x="1520640" y="6110280"/>
            <a:ext cx="14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最大トルク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84280" y="74880"/>
            <a:ext cx="43754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クロの有効化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マクロ_有効化_PowerPoint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819520" cy="1314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145840" y="865080"/>
            <a:ext cx="6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ァイル実行時に左図のメッセージが表示された場合は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『マクロを有効にする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）』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選択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マクロ_セキュリティ_PowerPoint" descr=""/>
          <p:cNvPicPr/>
          <p:nvPr/>
        </p:nvPicPr>
        <p:blipFill>
          <a:blip r:embed="rId2"/>
          <a:stretch/>
        </p:blipFill>
        <p:spPr>
          <a:xfrm>
            <a:off x="152280" y="2473200"/>
            <a:ext cx="2819520" cy="1108080"/>
          </a:xfrm>
          <a:prstGeom prst="rect">
            <a:avLst/>
          </a:prstGeom>
          <a:ln w="0">
            <a:noFill/>
          </a:ln>
        </p:spPr>
      </p:pic>
      <p:pic>
        <p:nvPicPr>
          <p:cNvPr id="80" name="マクロ_セキュリティレベル変更" descr=""/>
          <p:cNvPicPr/>
          <p:nvPr/>
        </p:nvPicPr>
        <p:blipFill>
          <a:blip r:embed="rId3"/>
          <a:stretch/>
        </p:blipFill>
        <p:spPr>
          <a:xfrm>
            <a:off x="566640" y="3886200"/>
            <a:ext cx="1990800" cy="2144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12920" y="2462040"/>
            <a:ext cx="6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メッセージが表示されない場合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セキュリティレベルを変更する必要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502200" y="205740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クロの有効化の確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35053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33080" y="6049800"/>
            <a:ext cx="225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クロのセキュリティ設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6320" y="74880"/>
            <a:ext cx="539136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ライブラリの参照設定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VB_ツール_参照設定_MicrosoftScriptingRuntime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3767040" cy="2600280"/>
          </a:xfrm>
          <a:prstGeom prst="rect">
            <a:avLst/>
          </a:prstGeom>
          <a:ln w="0">
            <a:noFill/>
          </a:ln>
        </p:spPr>
      </p:pic>
      <p:pic>
        <p:nvPicPr>
          <p:cNvPr id="87" name="VB_コンパイルエラー_ユーザ定義型未定義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1741320" cy="852480"/>
          </a:xfrm>
          <a:prstGeom prst="rect">
            <a:avLst/>
          </a:prstGeom>
          <a:ln w="0">
            <a:noFill/>
          </a:ln>
        </p:spPr>
      </p:pic>
      <p:pic>
        <p:nvPicPr>
          <p:cNvPr id="88" name="VB_ツール_参照設定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4800600" cy="15811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2760" y="1676520"/>
            <a:ext cx="18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コンパイルエラ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4290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8720" y="6324480"/>
            <a:ext cx="198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参照ライブラリ追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75120" y="876240"/>
            <a:ext cx="58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マクロ実行時（ボタン等の操作時）、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エラーが出ること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9760" y="3657600"/>
            <a:ext cx="281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Visual Basi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上のツールの参照設定で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Scripting Runtim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にチェックを入れ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67560" y="5423040"/>
            <a:ext cx="274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この設定はファイルごとに行う必要があるので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新規データを作成された場合には必ず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必要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2:16:18Z</dcterms:created>
  <dc:creator>Masayuki</dc:creator>
  <dc:description/>
  <dc:language>en-US</dc:language>
  <cp:lastModifiedBy>uemurac</cp:lastModifiedBy>
  <dcterms:modified xsi:type="dcterms:W3CDTF">2008-08-05T05:34:02Z</dcterms:modified>
  <cp:revision>230</cp:revision>
  <dc:subject/>
  <dc:title>スライド 1</dc:title>
</cp:coreProperties>
</file>